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2E08-DE31-4328-A965-A328F7238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6FA3-4502-4CFD-A8D6-043826DB1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2E84-7987-4502-9397-B90116D80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2681-3E6A-4949-9423-2547A56B8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637F-2781-4524-B8EA-696F8276B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2CA2-9752-4006-930E-EFEC0298D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341F-F9CC-48BD-80FF-71BBE543D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7DA0-0D14-4209-BDB1-8AEF8BA8C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4B4A-5935-4C61-8A34-22247DAA5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E561-6EC4-4EE7-83EE-4B6AC42DD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E2F3-7EA3-4419-B380-9C3ED349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23317-40F9-4256-8B39-75D01B5A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470F9-67C7-4C45-BC64-8798B9A2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40261-F541-4A31-9B0D-4602E2A6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10FEC-34CC-48D5-90E2-272D4847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918BE-9C1B-40B2-94A2-16CF3AC7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E5028-B1C2-464E-AE91-1C0035A7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BA315-5B6A-4251-B21F-4E210088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B5D52-002A-46E9-B9DF-3A40F47C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264A7-B16E-415B-8C1A-B05CEE2C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B3E7A-FF89-4FB3-A728-69637231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E3437-AF0F-4467-9066-118761B3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1374-45FA-4EFE-9D77-AF6D729E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EC93F-6CB6-424F-AB12-4DCF3622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A02FB-9BCD-4785-9579-9093B973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DCD6D-B7BE-410A-8D05-5B5AA37B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2045C-5E9D-448F-A425-1914C2FD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610C0-BFB5-48EF-88DC-44E8B972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54DBD-51FF-46B9-B8C6-689119B6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D6EE2-ECB3-48FC-82FF-E1BB73F7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F0554-6DE0-41CE-8464-27B701F2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D9544-4BEE-454D-8A38-817C6C2F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283A6-CED3-4F91-9C13-2E669C4E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873EF-CA96-4142-A8AD-159332D5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2B274-233A-4552-AA83-F0EB05C7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5DD4E0-056F-405B-AA38-AD900BD9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0960C5-358F-4746-BD1E-A3361291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801E56-1BE7-4CE2-95C7-A0FADC53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17F2BC-CDA8-4545-89E1-97485944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00E8E1-CB60-4143-AE31-52145DBC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442937-E28C-4387-A64B-AB0F24C3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4CA779-C8B2-4788-BFCE-6130B74D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D56EEA-5B0F-4E0A-A178-BF9CE001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B747B1-B2B2-42D2-A23B-2E8BDA4E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3A5E-222F-4B00-9DCE-CFD21C8F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B03ABE-56CC-4521-9C82-E445CAEE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3B7340-77C0-4F49-83CD-DE49F002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CA95CD-C7CF-4ED4-A12B-804C5539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C5078-68CF-4A75-95DA-A7B4D76A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0B57A-7B0F-4AC9-B65C-E46374C8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B959B-5825-4A30-AEB6-697A9BDC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0AFCE-ACB1-4B48-94D1-4310C7D8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D7A95-F64D-4B23-AB01-4E9A0975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EBEC7-05DD-48FF-93AE-9B887027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E41AA-3192-4D0A-82B6-484F61CA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03CA-4DFB-4AB2-B350-43BC4821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5F5B0-F458-40CF-88F2-290F3F20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21CF6-7A75-45A7-A24E-BF396404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3C969-6905-4DE6-A146-3FF6EAFB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4E83A0-9489-46A7-BBC1-3A66EB04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94B3E-0C88-4EE4-99EB-6EACBD40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B65CB4-58B2-4DFE-B538-B3C97DA4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F7FBE7-4B93-4FE9-A7E7-7C69DD44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0BCC8C-F5CE-4A71-A5E0-E492E99B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F6AD64-F075-41AF-A5A4-006D44A7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6AC8D2-96BE-4F73-881A-506035E4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CF4D-1804-4B88-903A-C772F011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E22B37-4C3F-4A4C-B951-1D6CA0F1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CFF802-FFD1-4F19-A9A6-0F209356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8A3567-B8CE-4609-A767-7DB66035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639387-D2AD-40B5-970F-B48BF100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A08F2F-F5FF-496D-9A1C-5BD401EA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609AAB-9BC3-4545-90F6-DA2350EC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263F4F-7FA1-446F-B9CB-D5F5B404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60A9F3-C5F9-461E-A2A4-9A69478C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39470D-0FF5-4EDA-ABCD-5A493115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093526-6D7E-4EBB-994E-9AF08E36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53D4-B274-4778-8A26-0612070C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A59406-89ED-4050-A5D3-0A789552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227BF7-B4AB-473C-A6D9-727047B6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1A7F6A-9148-4C7E-87EC-C8A54D2F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845E68-10D3-45A4-9522-0A96E83C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7A391C-6D4F-431A-9E18-11ED4BA5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18AE351-D2CC-43A4-95FB-7484A3AB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64E967-E7E0-4BA8-A5B1-C4575D4B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3E6657-13A9-4832-9630-8BF7E2B7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F18FBB-54B8-4984-B066-C5202457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F39B41-D922-4797-BBC9-5AF80433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2010-D2C2-4E75-9B1C-D3D34F94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F96544-9CD8-485F-95B2-E9EDEF05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C698FA-C420-4840-8F66-CB2C948E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5D13DA-5C53-47A2-BE51-094347F8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37205B-0C43-43DA-B7CD-2D68250A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C7FD2E-25BE-494E-9434-9B074DDD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38D0C7-F24F-47E6-B6B3-D39C8815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6508DE-270D-40B1-9E8A-18202064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382D4F-21DF-4B60-839E-5383ADE9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BD03A8-A280-4A17-A8A7-5E94D479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260441-24FF-4CCA-A939-EBE4BA18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83DB-784F-4544-B620-571821AE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43283E-950D-496B-9475-4A97DF9E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5F1F9B-C311-4021-B0C2-BAF3A909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E2B0E2-B3FA-429D-9AF3-8C0D3F24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18D62B-F75B-4603-BA0A-ED09BD85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16DF586-3A08-420F-8F01-D68ABBD7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92BD3F-7EC7-4009-A18D-024E90B5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7E1979-496C-4AE5-AAE2-5E847226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A3038C-CE51-4FA1-94C7-1547A620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C88D0A-EC08-47E9-985B-11692114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971243-8189-4918-ACF4-9B54D85D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6F99-AF82-4E67-BE67-B63AE4C3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77C3B8-9613-4663-BABC-46AC1CDC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0DF1F6-DBCB-47E1-9CC4-1DB1B509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375EFC-BEF4-4372-A29F-4AE9BCF1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02E2C72-1253-4251-8DEA-7009F68F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516C93-0852-454E-9719-896AEE6A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8C8645-E060-4F29-A189-C1246F27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6442E4-DD1A-429A-A07C-DF1BC286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49700C-B23D-49A2-A52C-5AEA651D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DA29BF-CBF8-46DA-B3F3-676D40DF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579335-CBC7-417B-9B66-011A4F13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00DAA-1E36-4072-BD61-11929A77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D6BC-B8A8-4952-BA76-318A6D54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1402C8-D7BD-4323-A3EF-0C0B903D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5A610E-CD05-4AAC-BE23-A14F6FAF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514DE2-5135-49C4-AF15-43D0B871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C18A86-75CD-42CA-890E-42FDFB8D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6A0497-E584-4B80-AF52-792EDAD5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4CBAC50-3838-4D41-B3D0-868A84C1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9B2893A-FE06-4FEE-93B5-9AC92F97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8AF6A64-E428-442E-9388-67931FAD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6580DDF-16CE-4892-9E3F-90A38813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F4F72F-2C61-403C-AC72-244BEAE8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2A1A-30F1-4FE2-B04C-63886B96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435061-0EF3-4BB8-8E24-8D94961E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7DC630-2E9B-41C2-BE0F-E79A5A3C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2C1198C-55D2-4753-96EC-EAAC546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05F2870-39BE-4B59-BF16-FB1F2C75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DFB6B8B-CC4E-4434-AAC5-243EA0DD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BFF60B-D102-42AE-8C2C-DACDA035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ED1D33F-BA28-4E9E-BD17-86F66F6E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DD5E16-9B80-447B-B9D5-769CCF3D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24E8AD9-7CDB-4A23-9B8E-E75933B8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5BD8B97-3626-421F-9F4A-877203B9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1E74-FA80-4636-86CD-43963E3D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40BDD6-F14F-443F-85BB-67E23B52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DD9F83-B0CD-49EA-B507-41964139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4EFDF51-7CAC-493E-BE15-4679AB27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7FE7478-BB73-4801-B24D-0B9F42FA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9313020-5A4B-4159-9FDA-25E13F0C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972B7F-E844-42E2-9B4F-761F55EC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F4129A-4F64-4399-A2B0-CBBDAAA4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3601AB-2EDE-4575-89D7-9C4400E3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C8FB316-D32F-4253-84EB-88D8DE73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80E37FC-0315-497C-B971-C7D51B49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F027-4A67-469C-A760-230EAFF3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B848540-7158-4C6E-9DD2-6D7394EA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7FBE3DC-9E50-4EF5-839B-A1F69EFA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51680F4-9C62-4B6C-9E3E-B9BEAD03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0998FB5-B633-43D4-86B5-107BF7DC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FE7BA8-F718-45D5-A0FE-E0E081F8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9BCBFA5-FFD4-4187-A600-82308AF8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8DE8CA5-D416-4CF2-99F1-EEB08F36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CA61A05-2C69-4D96-9F5D-15CD2B6E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0A2907A-C000-46D9-94DD-06A767A7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0909B71-0501-47AC-AE08-917BECC1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6870-75EB-4FCB-9E4F-8140E06F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312EAFB-8DE8-436A-BF98-C05C4413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8E87B1B-AF37-4E95-865A-8D8A9045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BC985E9-004C-48A0-94C6-7EA0ED1A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F0971D8-4388-412A-B4FC-E126C015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A6E6B09-4541-4C93-B383-EDC64780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D79E93A-9CB7-491D-8837-268D3610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AE8439C-0158-4D51-9145-F1CB2F30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18158F7-3899-4744-A00C-BA6E36C1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1BA3A72-632C-4366-9A81-981FC4F8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5A492A0-7A1E-495B-B188-D74EB678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1CEC8C-1448-4217-A90A-391775AB1D8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4B3982-A4FC-4C5D-BE72-1651C0A0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AEA45A1-6111-4E6D-9218-A2B88025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24A0F6D-84A0-4F77-B9B9-89BA7639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DD767D1-83A1-454A-A31B-93BC9C86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46004D4-928F-41D7-A7BB-7C193DE7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25081A2-656E-4075-A2F2-DD7522F3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F7D1B4A-3CCA-4B26-9BEB-1126933F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AB4F40A-54B5-46E2-84D8-5959C3BA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AE7E957-1485-46DB-98FB-450B0CD7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F71C80D-74A4-4E5B-AD0A-442B071A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FAF15E-51B0-437A-8C7A-F61089D577C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35E11D5-9A3C-4978-9578-E013083D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49AE18E-7AD7-43EC-90B4-3E9721C2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160A503-E5DA-4A6C-B9AC-75B57C0C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73B0425-297E-4CA6-BA85-76F068BD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89C92B4-7EC4-4A0F-A164-EDBBDE76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9AB831F-5B5B-478A-BC14-CAC1A006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052A16-6221-463C-9284-898A49AC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3C9A26E-9FC9-4367-B7BF-9257E89C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0D1DAB3-C91C-40C1-BB8A-DB7B9924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8B583D0-716D-4491-A6FE-C488F8AC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8D39C6-BA4A-4F60-8CFE-2A152F3AA91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1F6CA33-C7F9-4DB6-97D0-B9A3243A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E4B671C-0B3D-407B-AD57-124FBD26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D7D4707-9B66-4308-A4C7-03021F71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D072C7D-1C21-43FA-8627-D942394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FA31656-92B7-4C00-AC0D-B4B90135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3F14224-17EA-40CC-A48C-C37F7F4C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BFD8D2A-CE03-473F-8C81-3DD9FB5E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4ED1268-A19E-421B-A82E-35963102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5A871E2-7F19-488C-AD07-49D24836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74C3E53-9A73-4FC4-9ED1-AB918129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4C7A1E-F216-438D-8FA9-A2446E6CB4B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1FCBE73-4881-4D4F-BB41-F5E6F471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5F60768-F31C-47D7-B4E0-07AB9154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EE3248E-EB57-439E-B540-099430D4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4265AB2-D3FD-4D6A-99C7-F276CDAA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71BC5A8-BA1F-425B-9326-38EBCE0C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DE9C2EB-70D6-4275-93C2-FE2AE9FE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DE54442-DABD-4E47-9156-1C1D4ACB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26FF4D6-8E4F-4514-A0E3-DAD44A98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0161B63-BB76-4B12-92A1-14399146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D39194-D7C3-413C-8C17-4F4776130A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915769-FAC8-45FB-BA9E-9ABD5776432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35E6D0-0417-41D2-B757-9699E5A71D5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934C6B-2604-42AB-B9A9-977E86D28B1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6043EE-97E8-442F-B146-221475C69CE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2EB2DE-FED5-4F8C-93D7-B03FEE95487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BD1596-5159-4580-9746-A9F71EDB562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B3463B-15EC-49E9-ACA4-5C363BF5809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7E8B88-9FE8-4AAA-BD9C-19499543417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12BA2A-C51C-4241-AF3C-7184E2D9191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9A49F0-C6A9-45D0-A42A-11A2C1676CD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3D77A5-A4A1-4EE3-85B1-22DE12A988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564E-5513-49E6-83AA-F6B43708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D1623-5F5F-4B63-A08E-8A35F306FFE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90E5AF-545F-424F-9434-501B01B983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59F97F-F187-4A65-96D5-E0EEF6F02F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EC06A8-864C-417E-9006-C3F5E63AF1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FBAFC-7250-49C6-8E40-C5B4BD9BAD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CF49A8-E9CE-49C4-BE77-B8246773D3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01AF97-8493-4D19-9D78-6CF6B48FCA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6BF90E-EB24-4574-A0F5-BFCBB3C5C4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C02A99-5D53-4BB0-92F4-C26211F7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82FA77-F77E-47D7-832C-B2A479EF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97C092-1B4E-423D-9498-D4FD254A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BA94-18EC-4607-BDC4-421E0150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B11D1-B05A-4455-93AF-64D24264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54403-8A5C-47B1-8A05-4FF28B34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6111D-EF80-418E-88E9-EDCC7EA6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BC6A95-455A-4251-BB3D-34FBC89D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72AFE4-EC75-4297-AE8C-73013944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AA8EC8-B8AF-4A2B-9C2F-AD61FEA8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A87EEF-1907-4513-B94F-65208656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A0D1A6-60B0-458E-94A8-CE8AC835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8E8AA-424E-4E65-A32F-07B53D5B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5E475B-5263-413C-98C7-4D7BBF44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F9B8-1AAC-42F2-9ECC-C2B3B166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8D2AE5-A425-437B-863B-9865BBD7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AB69D3-F5A0-4306-AD3B-695E93EA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399824-F968-4E14-8D7B-6DFFA6F4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DCC79A-1FD9-4368-A7C7-190A9809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2F006A-FB3A-4875-AAF6-FDC42EAA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1EF542-40D8-4DD8-9273-E70115CE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097325-110F-4F9E-986B-25D8E9CA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545769-3F61-48D9-99D3-8AF3E79F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046DA0-E985-4BF5-A95B-DFD89F25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8D7B46-D2DC-44CD-9905-CEB63F28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70CE6-2A28-4942-84ED-87F16506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B55EBA-B448-4360-A3C9-76B3C62A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3DB0BE-D874-4E81-A51E-6C286D68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18FFE9-7923-4DCF-B1DC-6E3E85DD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156D19-15C7-43CF-967C-430957CA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1B7354-3F7C-4756-BCD1-D6396543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B6E898-53E3-4E34-8B98-B978A218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2F35D7-08CD-4B8E-AB3D-D91543DB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96AF79-4FC6-431E-A8FE-6CE28F1D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3F2A42-A05A-45B4-99F6-D11C3CA5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7C958F-1B70-41B0-9C50-93D841C6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7CA0-3048-4A80-A83E-631037AE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9189D3-B9D2-4866-8770-E101D7E3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7CAEF3-EBF6-42F4-B18E-280F82C9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C45615-3C6D-4D12-A062-CE6A71EA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585B12-7D7F-4F22-8833-00E8EE72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769865-CEFD-43A2-B460-B200C6B5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328140-F1C4-4915-BD3A-C0C020B4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64A831-0F98-4CC3-94D6-0835C480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045DC8-65A1-4E26-8010-DD810DA9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7D7536-1610-41A5-8F83-7A435141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8B7B5B-D359-4C4A-93DD-AB8340FB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4836E-8975-4D3B-82AB-1BA0FCD4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554DAB-6390-4E68-816D-FA4179D9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E13041-91E2-47AF-B5B4-11124115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F845F1-A64C-416B-A36C-FA4211E2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99C111-668A-424D-A7BC-5C9E8EBF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3B3422-135F-409D-B3B8-79D407A1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A752C2-0457-4B0D-9177-C72256E2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85FDBC-CB85-41A8-AA7A-8464493D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4745BA-484B-4120-93F9-5AC45CD6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275C72-8342-49A3-8019-DCF15E69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B9D8AD-A725-4173-A21B-84D95E83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FA52-1BF9-49EE-830D-AF38ABBF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74F2CC-764F-4D5F-B6AC-69BFB486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E69746-48D4-4004-8637-6D9440F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D60DB7-7B76-4170-829F-C79CB89C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B42209-2D3A-4F56-96D1-B308E395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1AD7ED-B4A1-4BEA-AA8D-E39D7A03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8CE777-2394-4AE1-A6E6-8F6F537A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B52A77-1DFB-42BE-963D-32745201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9AC7E-A7F9-40B1-A9AA-8ED65C6A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0D169-4448-43B6-96E4-527E8E29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3FD3E-F64D-4DA6-98E4-753EC187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59C4-B203-4C1C-9AF2-CCCBE63456C4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8AAB-C1DC-44F2-9658-09A378CF795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409A-8766-489C-8FAC-D9B06FC76DB7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1243-0A82-46A3-9A46-CE1906151C5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4DC5-4FDB-4464-8E99-24130C24B3BB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185D-078A-46BE-9B22-8F70E204E65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72C6-91C3-4CBB-B657-B7FC937DE10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0ED7-3D9C-4AC0-9655-6844666E000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8693-75D1-49C6-90D5-14EB3FEA8EE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8021-6441-4C71-9326-CFE2D6D94E5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6168-CBE2-46D6-9037-F35DD3D3DB1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A4CC-2C0A-4B88-AFEB-15F570C604A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35FF-CB6F-43FB-9224-B144FF37AF6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1865-430A-4EFA-8302-757B8753B81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FB8B-7D1D-4FA4-BC06-722C707CC63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07FD-449E-40D4-8012-4D241743B9C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0360-0DE5-4588-9E23-76E56AA387E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D43A-B01C-4F50-A348-805F96DF2EF9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52B6-51A8-470F-A038-E3597E8DF62E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6371-D1C5-4B20-94DB-6933881B81F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9787-D73F-47E8-9FB1-992A8E084A64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0B4C-C72F-4945-83D4-30A135A74CE6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02D2-CFEC-45B4-8909-71BE472F6D07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7AA7-BC3B-4219-9B32-BDAB6463FE9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6BE7-5E37-4906-934D-EC750746FE0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1819-1977-4A41-A138-7E183AEC057E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1143000" y="2514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Chapter Four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Concepts in e-commerce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ypes of e-commerce..contd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B2C 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rce between companies and consumer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volves customers gathering information; purchasing physical goods or information good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nline retailing companies such as Amazon.com, Drugstore.com, Beyond.com, Flipkart.com, Lenskart.co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duces transactions cos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creasing consumer access to informa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duces market entry barrier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9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541D-E0C2-4CA6-89FC-815D2F34E195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464653"/>
                </a:solidFill>
                <a:latin typeface="Bookman Old Style"/>
              </a:rPr>
              <a:t>..Contd…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2G e-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rce between companies and the public sector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 of the Internet for public procuremen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licensing procedur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2C e-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ommerce between private individuals or consumers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online auctions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auctions facilitated at a portal, such as eBay, which allows online real-time bidding on items being sold in the Web; 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peer-to-peer systems, such as the Napster model (a protocol for sharing files between users used by chat forums similar to IRC) and other file exchange and later money exchange models; and 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lassified ads at portal sites such as Excite Classifieds and eWanted (an inter- active, online marketplace where buyers and sellers can negotiate and which features “Buyer Leads &amp; Want Ads”).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onsumer-to-business (C2B) transactions involve reverse auctions, which empower the consumer to drive transactions. A concrete example of this when competing airlines gives a traveler best travel and ticket offers in response to the traveler’s post that she wants to fly from New York to San Francisco. 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There is little information on the relative size of global C2C e-commerce. However, C2C figures of popular C2C sites such as eBay and Napster indicate that this market is quite large. These sites produce millions of dollars in sales every day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10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197C-F83D-4C24-B662-0BBA524C651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6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D8FB-2C96-4E50-BA6E-A14FA71A846C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buying and selling of goods and services through wireless technolog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handheld devices such as cellular telephones and personal digital assistants (PDAs) are use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m-commerce will become the choice for digital commerce transaction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bill payment and account reviews can all be conducted from the handheld devic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onsumers are given the ability to place and pay for orders on-the-fl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delivery of entertainment, financial news, sports figures and traffic updates to a single mobile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different server than that accessed by the regular online user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allow users to book and cancel rail, flight, movie tickets through their mobile devic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M-Commerce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itical considerations for this strategy is the software solution that the organization u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in one’ device strategy vs individual device based tech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anks can use cost effective virtual distribution channe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inancial inclus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Greater reach across the popula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venience without compromising secur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nefits are in terms of usage, reach, cost of installation, efforts and money for maintenance, upgradeability and sustainabil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536D-0A48-4790-A457-86C74BA9709C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M commerce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the needs of all the players (including regulatory requirement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lution is adopted that can be deployed fast, and can be scal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re of disparate systems, customized solutions and maintenance c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platform that easily integrates new services and allows banks to be flexib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ing the bank to reap benefits from the full potential of the mobile comme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 commerce strategy requires a clear vision and objectives and not ‘one size fits all’ appro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EA43-948E-44E4-A58A-EEA404E8A847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Factors affecting e-commerc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jor forces fuelling e-commer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economic forces,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marketing and customer interaction forces, and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Technolog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ommunications costs,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low-cost technological infrastructure,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speedier and more economic electronic transactions with suppliers,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lower global information sharing and advertising costs, an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heaper customer service cos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networking of corporations, suppliers, customers/clients, and independent contractors into one community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Networking of the various departments within a corporation, and of business operations and process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09E3-E55D-4E8C-8B87-64DB7A0F3637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Factors affecting e-commerce..contd.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itical business information to be stored in a digital for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rieved instantly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ransmitted electronical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businesses (small, medium or large) to trading partn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ing out supplies, buying and selling goods and services online in real tim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enter for management of content and the processing of business transac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upport services such as financial clearance and information servic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gional, vertical and industry-specific interoperable B2B e-markets across the glob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402E-4A30-4DA8-922D-3B4CA64CE08B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Factors affecting e-commerce..contd.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vide their target consumers with more detailed product and service information using e-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gistical and technological infrastructure to other retail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rtise in credit analy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acking ord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duct comparison syste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gitizing content, compression and the promotion of open systems technolog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vergence of telephone services, television broadcast, cable television, and Internet acces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87F7-6844-45EE-A4B9-47B73284A3D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E-commerce component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corporate Web site with e-commerce capabil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corporate intranet so that orders are processed in an efficient mann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-literate employees to manage the information flows and maintain the e-commerce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king institutions that offer transaction clearing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onal and international logis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st-efficient transport of small and big packag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itical mass of the population with access to the Internet and disposable incom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rms/Businesses with order fulfilling cap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8ED2-044F-4D47-B519-CC990345EE7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E-commerce component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 legal framework governing e-commerce transac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Legal institutions that would enforce the legal framework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 robust and reliable Internet infrastructure;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 pricing structure that doesn’t penalize consumers for spending time on and buying goods over the Internet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global collection of networks connected to share information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ommon set of protocol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8934-93D2-4F79-8CD4-63F51CF8C046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is e-commerce and different models in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le of e-commerce in developing econom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w e-commerce is different than e-busin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et security requirement for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ctors that would influence adoption of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is m-commerce and how is it related to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lectronic payment syst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-bank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gal and policy issues in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-commerce and online publish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ctors that impact adoption of e-commerce among Small and Medium Enterprises (SM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gulatory monitoring required for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5D4F-6B77-4A61-B969-059FEA22F8A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compone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8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A9E8-24A8-48C9-AF80-4A5E7CE306B6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mportant component 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of e-commerce based firm is the websi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website should have technology that will make it easier for its customers to navigat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site should offer every single feature necessar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fully-functional and sustainable ecommerce web sit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stable server for hosting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provide customer specific servi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technology partners who constantly upgrade the features as well as technolog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help business partners such as logistics partners and suppliers to share and exchange business data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Alternatively SaaS can be used for running these services (reduce cos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Bookman Old Style"/>
              </a:rPr>
              <a:t>Business transformation through e-commerce</a:t>
            </a:r>
            <a:br>
              <a:rPr sz="2400"/>
            </a:b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457200" y="9144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nking stakeholders through e-commer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Supply chain management integration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The product flow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The information flow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The finances flow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Shared data in diverse database systems, data warehouse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Sharing data “upstream” (with a company’s suppliers) and “downstream” (with a company’s clients)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shared digital business infrastructure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including integrated value chains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e-business management model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business policies consistent with e-commerce laws, teleworking/virtual work, distance learning, incentive schemes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14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39CD-3E96-4105-B358-0C6E8CA15EB5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Bookman Old Style"/>
              </a:rPr>
              <a:t>E-COMMERCE APPLICATIONS: ISSUES AND PROSPECTS </a:t>
            </a:r>
            <a:br>
              <a:rPr sz="2000"/>
            </a:b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banking, e-tailing and online publishing/online retai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elephone banking, credit cards, ATM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commerce in developing countr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ash-on-deliver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ank paymen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lectronic payment syste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urity issues in e-payment 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ctors the growth of e-banking in developing countr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ccess to the Internet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clination for banking over the interne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ccess to high-quality produc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urity over internet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204E-9B43-4235-8DD6-107757C716A5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Bookman Old Style"/>
              </a:rPr>
              <a:t>Future trend in e-banking in third world countries</a:t>
            </a:r>
            <a:br>
              <a:rPr sz="2400"/>
            </a:b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457200" y="9144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Lead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Follow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Rejec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Interest in conducting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activities over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-tailing (or electronic retailing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elling of retail goods on the Interne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1997 is considered the initial year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Lower customer acquisition costs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line publish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newsletters, online magazines and databases, brochures and other promotional materials, book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Internet as a medium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15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C5F3-17CC-44EE-BF13-7F8D51EBA77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Future trend in e-banking in third world countrie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Online publish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dvantag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-cost universal acc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dependence of time and pla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se of distribu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ffective marketing outreach mediu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ssu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kind of business model would result in the most reven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icing, mark u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irness of charges to advertis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adequate copyright prote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ncryption for paid subscri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solicited commercial e-mail or “spam mail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63D6-FB7E-4808-81F4-72C49B2B35B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e-commerce AND entrepreneur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.   It facilitates the access of artisans and SMEs to world marke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.   It facilitates the promotion and development of tourism of developing countries in a global sca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.   It facilitates the marketing of agricultural and tropical products in the global marke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4.   It provides avenues for firms in poorer countries to enter into B2B and B2G supply chai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5.   It assists service-providing enterprises in developing countries by allowing them to operate more efficiently and directly provide specific services to customers global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A18C-71C3-43B0-9A75-2A7C13FEF88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AND entrepreneurs..cont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-commerce evolution for entrepreneu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use of the Internet for communication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use of the Internet for research and information search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information about a firm’s goods or service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Internet for e-commer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aintaining business relationships with business partner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sues with adoption of e-commerce by entrepreneu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unfavorable economic environment,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high cost of ICT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ecurity concern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lack of ICT awareness and knowledg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Lack of ICT-capable employee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16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C35E-79C7-40FA-85B4-CBAE015FBB6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ole of government and e-commerc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457200" y="9907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ing a favorable poli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coming a leading-edge user of e-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s applications in its opera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rovider to citizens of e-government services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encourage its mass u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ridging the digital divi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gal recognition of e-commerce transa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umer protection from frau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tection of consumers’ right to priva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gal protection against cra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tection of intellectual proper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7319-B7DC-4652-995D-22055B93C68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Infrastructure in e-commerce development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igh Internet access costs, including connection service fees, communication fees, and hosting charges for websites with sufficient bandwidth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imited availability of credit cards and a nationwide credit card system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Underdeveloped transportation infrastructure resulting in slow and uncertain delivery of goods and services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Network security problems and insufficient security safeguards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ack of skilled human resources and key technologies (i.e., inadequate professional IT workforce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Content restriction on national security and other public policy grounds, which greatly affect business in the field of  information services, such as the media and entertainment sectors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Cross-border issues, such as the recognition of transactions under laws of other ASEAN member-countries, certification services, improvement of delivery methods and customs facilitation; and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he relatively low cost of labor, which implies that a shift to a comparatively capital intensive solution (including investments on  the improvement of the physical and network infrastructure) is not appar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T’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4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7797-96FE-42AA-8887-ACDB5FE74856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werful tool in the economic growth of developing countr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commerce promises better business for SM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stainable economic developmen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quires strong political will and good governa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quires responsible and supportive private sect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8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5387-61DC-4122-886E-FFE6036FB3F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218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ine business activities for products and servi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-commerce is usually associated with buying and selling over the Intern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ew Definition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reate, transform, and redefine relationships for value creation between or among organizations, and between organizations and individu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2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5D6C-F114-499A-A0E5-E5511953C71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E-commerce is a short version of the term Electronic 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transactions related to online buying and selling of products or servi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done using electronic systems such as the Internet and other computer networ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penetration and spread of the internet has fuelled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Examples os e-commerce are electronic funds transfer, supply chain management, Internet marketing, online transaction processing, electronic data interchange (EDI), inventory management systems, and automated data collectio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definition of e-commerce in modern the modern times implies that it typically uses the World Wide Web at least at any point in the transaction's lifecyc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Online retailers are sometimes known as e-tail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online retail is sometimes known as e-tai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and e-busines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E-commerce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tion and communications technology (ICT) is used in inter-business or inter-organizational transa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business:  ICT is used to enhance one’s busin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ree primary processes are enhanced in e-busin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1.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Production processes, which include procurement, ordering and replenishment of stocks; processing of payments; electronic links with suppliers; and production control processes, among others;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2.   Customer-focused processes, which include promotional and marketing efforts, selling over the Internet, processing of customers’ purchase orders and payments, and customer support, among others; and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3.   Internal management processes, which include employee services, training, internal information-sharing, video-conferencing, and recruiting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DFE8-C343-412D-97C0-FD8B4A76FE6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ernet econom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cludes e-commerce and e-busin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tains to all economic activities using electronic network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made up of three major seg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hysical (ICT) infrastructur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siness infrastructure, and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r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termediari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7E79-6477-41E4-B4DA-B06F6D9177A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ypes of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4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CAE9-4FCE-4EEF-84CB-CAACC2370B8C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2B: 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E-commerce that is conducted between businesses is referred to as Business-to-busines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(1) open to the entire public or (2) limited to a group of businesses who have been part of the specific group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Transaction cost reduced through reduction i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arch cos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sts of processing transactions (e.g. invoices, purchase orders and payment schem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st in trading process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liminating intermediaries and distributor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crease in price transparenc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reates supply-side cost-based economies of scal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3-04T19:04:21Z</dcterms:modified>
  <cp:revision>320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